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</p:sldIdLst>
  <p:sldSz cx="6858000" cy="9907588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"/>
          <p:cNvSpPr/>
          <p:nvPr/>
        </p:nvSpPr>
        <p:spPr>
          <a:xfrm>
            <a:off x="152280" y="804960"/>
            <a:ext cx="6546960" cy="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그림 2" descr="1. SK hynix_영문_커뮤니케이션명.png"/>
          <p:cNvPicPr/>
          <p:nvPr/>
        </p:nvPicPr>
        <p:blipFill>
          <a:blip r:embed="rId2"/>
          <a:stretch/>
        </p:blipFill>
        <p:spPr>
          <a:xfrm>
            <a:off x="5553000" y="136440"/>
            <a:ext cx="120960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83"/>
          <p:cNvGrpSpPr/>
          <p:nvPr/>
        </p:nvGrpSpPr>
        <p:grpSpPr>
          <a:xfrm>
            <a:off x="-4680" y="2595600"/>
            <a:ext cx="6862320" cy="3708720"/>
            <a:chOff x="-4680" y="2595600"/>
            <a:chExt cx="6862320" cy="3708720"/>
          </a:xfrm>
        </p:grpSpPr>
        <p:sp>
          <p:nvSpPr>
            <p:cNvPr id="363" name="Line 6"/>
            <p:cNvSpPr/>
            <p:nvPr/>
          </p:nvSpPr>
          <p:spPr>
            <a:xfrm>
              <a:off x="0" y="2595600"/>
              <a:ext cx="28868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4" name="Line 7"/>
            <p:cNvSpPr/>
            <p:nvPr/>
          </p:nvSpPr>
          <p:spPr>
            <a:xfrm flipV="1">
              <a:off x="0" y="2712240"/>
              <a:ext cx="2635560" cy="136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-4680" y="2820600"/>
              <a:ext cx="2349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366" name="Group 87"/>
            <p:cNvGrpSpPr/>
            <p:nvPr/>
          </p:nvGrpSpPr>
          <p:grpSpPr>
            <a:xfrm>
              <a:off x="3970440" y="6082920"/>
              <a:ext cx="2887200" cy="221400"/>
              <a:chOff x="3970440" y="6082920"/>
              <a:chExt cx="2887200" cy="221400"/>
            </a:xfrm>
          </p:grpSpPr>
          <p:sp>
            <p:nvSpPr>
              <p:cNvPr id="367" name="Line 8"/>
              <p:cNvSpPr/>
              <p:nvPr/>
            </p:nvSpPr>
            <p:spPr>
              <a:xfrm>
                <a:off x="4506480" y="6082920"/>
                <a:ext cx="234972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8" name="Line 7"/>
              <p:cNvSpPr/>
              <p:nvPr/>
            </p:nvSpPr>
            <p:spPr>
              <a:xfrm flipV="1">
                <a:off x="4216320" y="6173640"/>
                <a:ext cx="2636280" cy="1332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9" name="Line 6"/>
              <p:cNvSpPr/>
              <p:nvPr/>
            </p:nvSpPr>
            <p:spPr>
              <a:xfrm>
                <a:off x="3970440" y="6304320"/>
                <a:ext cx="288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370" name="Picture 93" descr=""/>
          <p:cNvPicPr/>
          <p:nvPr/>
        </p:nvPicPr>
        <p:blipFill>
          <a:blip r:embed="rId2"/>
          <a:stretch/>
        </p:blipFill>
        <p:spPr>
          <a:xfrm>
            <a:off x="239760" y="584280"/>
            <a:ext cx="1593720" cy="134928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13"/>
          <p:cNvGrpSpPr/>
          <p:nvPr/>
        </p:nvGrpSpPr>
        <p:grpSpPr>
          <a:xfrm>
            <a:off x="6291360" y="204840"/>
            <a:ext cx="414360" cy="394920"/>
            <a:chOff x="6291360" y="204840"/>
            <a:chExt cx="414360" cy="394920"/>
          </a:xfrm>
        </p:grpSpPr>
        <p:sp>
          <p:nvSpPr>
            <p:cNvPr id="372" name="Rectangle 14"/>
            <p:cNvSpPr/>
            <p:nvPr/>
          </p:nvSpPr>
          <p:spPr>
            <a:xfrm>
              <a:off x="6405840" y="291240"/>
              <a:ext cx="185760" cy="214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3" name="Rectangle 15"/>
            <p:cNvSpPr/>
            <p:nvPr/>
          </p:nvSpPr>
          <p:spPr>
            <a:xfrm>
              <a:off x="6291360" y="204840"/>
              <a:ext cx="414360" cy="39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 외 비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4" name="Text Box 41"/>
          <p:cNvSpPr/>
          <p:nvPr/>
        </p:nvSpPr>
        <p:spPr>
          <a:xfrm>
            <a:off x="6070680" y="687240"/>
            <a:ext cx="7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견고딕"/>
              </a:rPr>
              <a:t>’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견고딕"/>
              </a:rPr>
              <a:t>10.09.08~ ’11.09.08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880" y="185400"/>
            <a:ext cx="61894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342720" y="2471760"/>
            <a:ext cx="61722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83"/>
          <p:cNvGrpSpPr/>
          <p:nvPr/>
        </p:nvGrpSpPr>
        <p:grpSpPr>
          <a:xfrm>
            <a:off x="-4680" y="2595600"/>
            <a:ext cx="6862320" cy="3708720"/>
            <a:chOff x="-4680" y="2595600"/>
            <a:chExt cx="6862320" cy="3708720"/>
          </a:xfrm>
        </p:grpSpPr>
        <p:sp>
          <p:nvSpPr>
            <p:cNvPr id="414" name="Line 6"/>
            <p:cNvSpPr/>
            <p:nvPr/>
          </p:nvSpPr>
          <p:spPr>
            <a:xfrm>
              <a:off x="0" y="2595600"/>
              <a:ext cx="28868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 flipV="1">
              <a:off x="0" y="2712240"/>
              <a:ext cx="2635560" cy="136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-4680" y="2820600"/>
              <a:ext cx="2349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17" name="Group 87"/>
            <p:cNvGrpSpPr/>
            <p:nvPr/>
          </p:nvGrpSpPr>
          <p:grpSpPr>
            <a:xfrm>
              <a:off x="3970440" y="6082920"/>
              <a:ext cx="2887200" cy="221400"/>
              <a:chOff x="3970440" y="6082920"/>
              <a:chExt cx="2887200" cy="221400"/>
            </a:xfrm>
          </p:grpSpPr>
          <p:sp>
            <p:nvSpPr>
              <p:cNvPr id="418" name="Line 8"/>
              <p:cNvSpPr/>
              <p:nvPr/>
            </p:nvSpPr>
            <p:spPr>
              <a:xfrm>
                <a:off x="4506480" y="6082920"/>
                <a:ext cx="234972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9" name="Line 7"/>
              <p:cNvSpPr/>
              <p:nvPr/>
            </p:nvSpPr>
            <p:spPr>
              <a:xfrm flipV="1">
                <a:off x="4216320" y="6173640"/>
                <a:ext cx="2636280" cy="1332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970440" y="6304320"/>
                <a:ext cx="288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421" name="Picture 93" descr=""/>
          <p:cNvPicPr/>
          <p:nvPr/>
        </p:nvPicPr>
        <p:blipFill>
          <a:blip r:embed="rId2"/>
          <a:stretch/>
        </p:blipFill>
        <p:spPr>
          <a:xfrm>
            <a:off x="239760" y="584280"/>
            <a:ext cx="1593720" cy="134928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13"/>
          <p:cNvGrpSpPr/>
          <p:nvPr/>
        </p:nvGrpSpPr>
        <p:grpSpPr>
          <a:xfrm>
            <a:off x="6291360" y="204840"/>
            <a:ext cx="414360" cy="394920"/>
            <a:chOff x="6291360" y="204840"/>
            <a:chExt cx="414360" cy="394920"/>
          </a:xfrm>
        </p:grpSpPr>
        <p:sp>
          <p:nvSpPr>
            <p:cNvPr id="423" name="Rectangle 14"/>
            <p:cNvSpPr/>
            <p:nvPr/>
          </p:nvSpPr>
          <p:spPr>
            <a:xfrm>
              <a:off x="6405840" y="291240"/>
              <a:ext cx="185760" cy="214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Rectangle 15"/>
            <p:cNvSpPr/>
            <p:nvPr/>
          </p:nvSpPr>
          <p:spPr>
            <a:xfrm>
              <a:off x="6291360" y="204840"/>
              <a:ext cx="414360" cy="39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 외 비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5" name="Text Box 41"/>
          <p:cNvSpPr/>
          <p:nvPr/>
        </p:nvSpPr>
        <p:spPr>
          <a:xfrm>
            <a:off x="6070680" y="687240"/>
            <a:ext cx="7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견고딕"/>
              </a:rPr>
              <a:t>’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견고딕"/>
              </a:rPr>
              <a:t>10.09.08~ ’11.09.08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9880" y="185400"/>
            <a:ext cx="61894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342720" y="2471760"/>
            <a:ext cx="61722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83"/>
          <p:cNvGrpSpPr/>
          <p:nvPr/>
        </p:nvGrpSpPr>
        <p:grpSpPr>
          <a:xfrm>
            <a:off x="-4680" y="2595600"/>
            <a:ext cx="6862320" cy="3708720"/>
            <a:chOff x="-4680" y="2595600"/>
            <a:chExt cx="6862320" cy="3708720"/>
          </a:xfrm>
        </p:grpSpPr>
        <p:sp>
          <p:nvSpPr>
            <p:cNvPr id="465" name="Line 6"/>
            <p:cNvSpPr/>
            <p:nvPr/>
          </p:nvSpPr>
          <p:spPr>
            <a:xfrm>
              <a:off x="0" y="2595600"/>
              <a:ext cx="28868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6" name="Line 7"/>
            <p:cNvSpPr/>
            <p:nvPr/>
          </p:nvSpPr>
          <p:spPr>
            <a:xfrm flipV="1">
              <a:off x="0" y="2712240"/>
              <a:ext cx="2635560" cy="136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-4680" y="2820600"/>
              <a:ext cx="2349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68" name="Group 87"/>
            <p:cNvGrpSpPr/>
            <p:nvPr/>
          </p:nvGrpSpPr>
          <p:grpSpPr>
            <a:xfrm>
              <a:off x="3970440" y="6082920"/>
              <a:ext cx="2887200" cy="221400"/>
              <a:chOff x="3970440" y="6082920"/>
              <a:chExt cx="2887200" cy="221400"/>
            </a:xfrm>
          </p:grpSpPr>
          <p:sp>
            <p:nvSpPr>
              <p:cNvPr id="469" name="Line 8"/>
              <p:cNvSpPr/>
              <p:nvPr/>
            </p:nvSpPr>
            <p:spPr>
              <a:xfrm>
                <a:off x="4506480" y="6082920"/>
                <a:ext cx="234972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0" name="Line 7"/>
              <p:cNvSpPr/>
              <p:nvPr/>
            </p:nvSpPr>
            <p:spPr>
              <a:xfrm flipV="1">
                <a:off x="4216320" y="6173640"/>
                <a:ext cx="2636280" cy="1332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1" name="Line 6"/>
              <p:cNvSpPr/>
              <p:nvPr/>
            </p:nvSpPr>
            <p:spPr>
              <a:xfrm>
                <a:off x="3970440" y="6304320"/>
                <a:ext cx="288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472" name="Picture 93" descr=""/>
          <p:cNvPicPr/>
          <p:nvPr/>
        </p:nvPicPr>
        <p:blipFill>
          <a:blip r:embed="rId2"/>
          <a:stretch/>
        </p:blipFill>
        <p:spPr>
          <a:xfrm>
            <a:off x="239760" y="584280"/>
            <a:ext cx="1593720" cy="1349280"/>
          </a:xfrm>
          <a:prstGeom prst="rect">
            <a:avLst/>
          </a:prstGeom>
          <a:ln w="0">
            <a:noFill/>
          </a:ln>
        </p:spPr>
      </p:pic>
      <p:grpSp>
        <p:nvGrpSpPr>
          <p:cNvPr id="473" name="Group 13"/>
          <p:cNvGrpSpPr/>
          <p:nvPr/>
        </p:nvGrpSpPr>
        <p:grpSpPr>
          <a:xfrm>
            <a:off x="6291360" y="204840"/>
            <a:ext cx="414360" cy="394920"/>
            <a:chOff x="6291360" y="204840"/>
            <a:chExt cx="414360" cy="394920"/>
          </a:xfrm>
        </p:grpSpPr>
        <p:sp>
          <p:nvSpPr>
            <p:cNvPr id="474" name="Rectangle 14"/>
            <p:cNvSpPr/>
            <p:nvPr/>
          </p:nvSpPr>
          <p:spPr>
            <a:xfrm>
              <a:off x="6405840" y="291240"/>
              <a:ext cx="185760" cy="214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5" name="Rectangle 15"/>
            <p:cNvSpPr/>
            <p:nvPr/>
          </p:nvSpPr>
          <p:spPr>
            <a:xfrm>
              <a:off x="6291360" y="204840"/>
              <a:ext cx="414360" cy="39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 외 비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6" name="Text Box 41"/>
          <p:cNvSpPr/>
          <p:nvPr/>
        </p:nvSpPr>
        <p:spPr>
          <a:xfrm>
            <a:off x="6070680" y="687240"/>
            <a:ext cx="7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견고딕"/>
              </a:rPr>
              <a:t>’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견고딕"/>
              </a:rPr>
              <a:t>10.09.08~ ’11.09.08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9880" y="185400"/>
            <a:ext cx="61894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342720" y="2471760"/>
            <a:ext cx="61722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83"/>
          <p:cNvGrpSpPr/>
          <p:nvPr/>
        </p:nvGrpSpPr>
        <p:grpSpPr>
          <a:xfrm>
            <a:off x="-4680" y="2595600"/>
            <a:ext cx="6862320" cy="3708720"/>
            <a:chOff x="-4680" y="2595600"/>
            <a:chExt cx="6862320" cy="3708720"/>
          </a:xfrm>
        </p:grpSpPr>
        <p:sp>
          <p:nvSpPr>
            <p:cNvPr id="516" name="Line 6"/>
            <p:cNvSpPr/>
            <p:nvPr/>
          </p:nvSpPr>
          <p:spPr>
            <a:xfrm>
              <a:off x="0" y="2595600"/>
              <a:ext cx="28868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7" name="Line 7"/>
            <p:cNvSpPr/>
            <p:nvPr/>
          </p:nvSpPr>
          <p:spPr>
            <a:xfrm flipV="1">
              <a:off x="0" y="2712240"/>
              <a:ext cx="2635560" cy="136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-4680" y="2820600"/>
              <a:ext cx="2349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9" name="Group 87"/>
            <p:cNvGrpSpPr/>
            <p:nvPr/>
          </p:nvGrpSpPr>
          <p:grpSpPr>
            <a:xfrm>
              <a:off x="3970440" y="6082920"/>
              <a:ext cx="2887200" cy="221400"/>
              <a:chOff x="3970440" y="6082920"/>
              <a:chExt cx="2887200" cy="221400"/>
            </a:xfrm>
          </p:grpSpPr>
          <p:sp>
            <p:nvSpPr>
              <p:cNvPr id="520" name="Line 8"/>
              <p:cNvSpPr/>
              <p:nvPr/>
            </p:nvSpPr>
            <p:spPr>
              <a:xfrm>
                <a:off x="4506480" y="6082920"/>
                <a:ext cx="234972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1" name="Line 7"/>
              <p:cNvSpPr/>
              <p:nvPr/>
            </p:nvSpPr>
            <p:spPr>
              <a:xfrm flipV="1">
                <a:off x="4216320" y="6173640"/>
                <a:ext cx="2636280" cy="1332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2" name="Line 6"/>
              <p:cNvSpPr/>
              <p:nvPr/>
            </p:nvSpPr>
            <p:spPr>
              <a:xfrm>
                <a:off x="3970440" y="6304320"/>
                <a:ext cx="288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523" name="Picture 93" descr=""/>
          <p:cNvPicPr/>
          <p:nvPr/>
        </p:nvPicPr>
        <p:blipFill>
          <a:blip r:embed="rId2"/>
          <a:stretch/>
        </p:blipFill>
        <p:spPr>
          <a:xfrm>
            <a:off x="239760" y="584280"/>
            <a:ext cx="1593720" cy="1349280"/>
          </a:xfrm>
          <a:prstGeom prst="rect">
            <a:avLst/>
          </a:prstGeom>
          <a:ln w="0">
            <a:noFill/>
          </a:ln>
        </p:spPr>
      </p:pic>
      <p:grpSp>
        <p:nvGrpSpPr>
          <p:cNvPr id="524" name="Group 13"/>
          <p:cNvGrpSpPr/>
          <p:nvPr/>
        </p:nvGrpSpPr>
        <p:grpSpPr>
          <a:xfrm>
            <a:off x="6291360" y="204840"/>
            <a:ext cx="414360" cy="394920"/>
            <a:chOff x="6291360" y="204840"/>
            <a:chExt cx="414360" cy="394920"/>
          </a:xfrm>
        </p:grpSpPr>
        <p:sp>
          <p:nvSpPr>
            <p:cNvPr id="525" name="Rectangle 14"/>
            <p:cNvSpPr/>
            <p:nvPr/>
          </p:nvSpPr>
          <p:spPr>
            <a:xfrm>
              <a:off x="6405840" y="291240"/>
              <a:ext cx="185760" cy="214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6" name="Rectangle 15"/>
            <p:cNvSpPr/>
            <p:nvPr/>
          </p:nvSpPr>
          <p:spPr>
            <a:xfrm>
              <a:off x="6291360" y="204840"/>
              <a:ext cx="414360" cy="39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 외 비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27" name="Text Box 41"/>
          <p:cNvSpPr/>
          <p:nvPr/>
        </p:nvSpPr>
        <p:spPr>
          <a:xfrm>
            <a:off x="6070680" y="687240"/>
            <a:ext cx="7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견고딕"/>
              </a:rPr>
              <a:t>’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견고딕"/>
              </a:rPr>
              <a:t>10.09.06~ ’11.09.06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9880" y="185400"/>
            <a:ext cx="61894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342720" y="2471760"/>
            <a:ext cx="61722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83"/>
          <p:cNvGrpSpPr/>
          <p:nvPr/>
        </p:nvGrpSpPr>
        <p:grpSpPr>
          <a:xfrm>
            <a:off x="-4680" y="2595600"/>
            <a:ext cx="6862320" cy="3708720"/>
            <a:chOff x="-4680" y="2595600"/>
            <a:chExt cx="6862320" cy="3708720"/>
          </a:xfrm>
        </p:grpSpPr>
        <p:sp>
          <p:nvSpPr>
            <p:cNvPr id="567" name="Line 6"/>
            <p:cNvSpPr/>
            <p:nvPr/>
          </p:nvSpPr>
          <p:spPr>
            <a:xfrm>
              <a:off x="0" y="2595600"/>
              <a:ext cx="28868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8" name="Line 7"/>
            <p:cNvSpPr/>
            <p:nvPr/>
          </p:nvSpPr>
          <p:spPr>
            <a:xfrm flipV="1">
              <a:off x="0" y="2712240"/>
              <a:ext cx="2635560" cy="136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-4680" y="2820600"/>
              <a:ext cx="2349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70" name="Group 87"/>
            <p:cNvGrpSpPr/>
            <p:nvPr/>
          </p:nvGrpSpPr>
          <p:grpSpPr>
            <a:xfrm>
              <a:off x="3970440" y="6082920"/>
              <a:ext cx="2887200" cy="221400"/>
              <a:chOff x="3970440" y="6082920"/>
              <a:chExt cx="2887200" cy="221400"/>
            </a:xfrm>
          </p:grpSpPr>
          <p:sp>
            <p:nvSpPr>
              <p:cNvPr id="571" name="Line 8"/>
              <p:cNvSpPr/>
              <p:nvPr/>
            </p:nvSpPr>
            <p:spPr>
              <a:xfrm>
                <a:off x="4506480" y="6082920"/>
                <a:ext cx="234972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2" name="Line 7"/>
              <p:cNvSpPr/>
              <p:nvPr/>
            </p:nvSpPr>
            <p:spPr>
              <a:xfrm flipV="1">
                <a:off x="4216320" y="6173640"/>
                <a:ext cx="2636280" cy="1332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3" name="Line 6"/>
              <p:cNvSpPr/>
              <p:nvPr/>
            </p:nvSpPr>
            <p:spPr>
              <a:xfrm>
                <a:off x="3970440" y="6304320"/>
                <a:ext cx="288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574" name="Picture 93" descr=""/>
          <p:cNvPicPr/>
          <p:nvPr/>
        </p:nvPicPr>
        <p:blipFill>
          <a:blip r:embed="rId2"/>
          <a:stretch/>
        </p:blipFill>
        <p:spPr>
          <a:xfrm>
            <a:off x="239760" y="584280"/>
            <a:ext cx="1593720" cy="134928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13"/>
          <p:cNvGrpSpPr/>
          <p:nvPr/>
        </p:nvGrpSpPr>
        <p:grpSpPr>
          <a:xfrm>
            <a:off x="6291360" y="204840"/>
            <a:ext cx="414360" cy="394920"/>
            <a:chOff x="6291360" y="204840"/>
            <a:chExt cx="414360" cy="394920"/>
          </a:xfrm>
        </p:grpSpPr>
        <p:sp>
          <p:nvSpPr>
            <p:cNvPr id="576" name="Rectangle 14"/>
            <p:cNvSpPr/>
            <p:nvPr/>
          </p:nvSpPr>
          <p:spPr>
            <a:xfrm>
              <a:off x="6405840" y="291240"/>
              <a:ext cx="185760" cy="214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7" name="Rectangle 15"/>
            <p:cNvSpPr/>
            <p:nvPr/>
          </p:nvSpPr>
          <p:spPr>
            <a:xfrm>
              <a:off x="6291360" y="204840"/>
              <a:ext cx="414360" cy="39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 외 비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8" name="Text Box 41"/>
          <p:cNvSpPr/>
          <p:nvPr/>
        </p:nvSpPr>
        <p:spPr>
          <a:xfrm>
            <a:off x="6070680" y="687240"/>
            <a:ext cx="7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견고딕"/>
              </a:rPr>
              <a:t>’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견고딕"/>
              </a:rPr>
              <a:t>10.09.08~ ’11.09.08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9880" y="185400"/>
            <a:ext cx="61894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342720" y="2471760"/>
            <a:ext cx="61722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83"/>
          <p:cNvGrpSpPr/>
          <p:nvPr/>
        </p:nvGrpSpPr>
        <p:grpSpPr>
          <a:xfrm>
            <a:off x="-4680" y="2595600"/>
            <a:ext cx="6862320" cy="3708720"/>
            <a:chOff x="-4680" y="2595600"/>
            <a:chExt cx="6862320" cy="3708720"/>
          </a:xfrm>
        </p:grpSpPr>
        <p:sp>
          <p:nvSpPr>
            <p:cNvPr id="618" name="Line 6"/>
            <p:cNvSpPr/>
            <p:nvPr/>
          </p:nvSpPr>
          <p:spPr>
            <a:xfrm>
              <a:off x="0" y="2595600"/>
              <a:ext cx="28868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9" name="Line 7"/>
            <p:cNvSpPr/>
            <p:nvPr/>
          </p:nvSpPr>
          <p:spPr>
            <a:xfrm flipV="1">
              <a:off x="0" y="2712240"/>
              <a:ext cx="2635560" cy="136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-4680" y="2820600"/>
              <a:ext cx="2349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21" name="Group 87"/>
            <p:cNvGrpSpPr/>
            <p:nvPr/>
          </p:nvGrpSpPr>
          <p:grpSpPr>
            <a:xfrm>
              <a:off x="3970440" y="6082920"/>
              <a:ext cx="2887200" cy="221400"/>
              <a:chOff x="3970440" y="6082920"/>
              <a:chExt cx="2887200" cy="221400"/>
            </a:xfrm>
          </p:grpSpPr>
          <p:sp>
            <p:nvSpPr>
              <p:cNvPr id="622" name="Line 8"/>
              <p:cNvSpPr/>
              <p:nvPr/>
            </p:nvSpPr>
            <p:spPr>
              <a:xfrm>
                <a:off x="4506480" y="6082920"/>
                <a:ext cx="234972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3" name="Line 7"/>
              <p:cNvSpPr/>
              <p:nvPr/>
            </p:nvSpPr>
            <p:spPr>
              <a:xfrm flipV="1">
                <a:off x="4216320" y="6173640"/>
                <a:ext cx="2636280" cy="1332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4" name="Line 6"/>
              <p:cNvSpPr/>
              <p:nvPr/>
            </p:nvSpPr>
            <p:spPr>
              <a:xfrm>
                <a:off x="3970440" y="6304320"/>
                <a:ext cx="288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625" name="Picture 93" descr=""/>
          <p:cNvPicPr/>
          <p:nvPr/>
        </p:nvPicPr>
        <p:blipFill>
          <a:blip r:embed="rId2"/>
          <a:stretch/>
        </p:blipFill>
        <p:spPr>
          <a:xfrm>
            <a:off x="239760" y="584280"/>
            <a:ext cx="1593720" cy="1349280"/>
          </a:xfrm>
          <a:prstGeom prst="rect">
            <a:avLst/>
          </a:prstGeom>
          <a:ln w="0">
            <a:noFill/>
          </a:ln>
        </p:spPr>
      </p:pic>
      <p:grpSp>
        <p:nvGrpSpPr>
          <p:cNvPr id="626" name="Group 13"/>
          <p:cNvGrpSpPr/>
          <p:nvPr/>
        </p:nvGrpSpPr>
        <p:grpSpPr>
          <a:xfrm>
            <a:off x="6291360" y="204840"/>
            <a:ext cx="414360" cy="394920"/>
            <a:chOff x="6291360" y="204840"/>
            <a:chExt cx="414360" cy="394920"/>
          </a:xfrm>
        </p:grpSpPr>
        <p:sp>
          <p:nvSpPr>
            <p:cNvPr id="627" name="Rectangle 14"/>
            <p:cNvSpPr/>
            <p:nvPr/>
          </p:nvSpPr>
          <p:spPr>
            <a:xfrm>
              <a:off x="6405840" y="291240"/>
              <a:ext cx="185760" cy="214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8" name="Rectangle 15"/>
            <p:cNvSpPr/>
            <p:nvPr/>
          </p:nvSpPr>
          <p:spPr>
            <a:xfrm>
              <a:off x="6291360" y="204840"/>
              <a:ext cx="414360" cy="39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 외 비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29" name="Text Box 41"/>
          <p:cNvSpPr/>
          <p:nvPr/>
        </p:nvSpPr>
        <p:spPr>
          <a:xfrm>
            <a:off x="6070680" y="687240"/>
            <a:ext cx="7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견고딕"/>
              </a:rPr>
              <a:t>’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견고딕"/>
              </a:rPr>
              <a:t>10.09.08~ ’11.09.08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9880" y="185400"/>
            <a:ext cx="61894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342720" y="2471760"/>
            <a:ext cx="61722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880" y="185400"/>
            <a:ext cx="61894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42720" y="2471760"/>
            <a:ext cx="61722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직선 연결선 14"/>
          <p:cNvSpPr/>
          <p:nvPr/>
        </p:nvSpPr>
        <p:spPr>
          <a:xfrm>
            <a:off x="60480" y="1128600"/>
            <a:ext cx="6742080" cy="1800"/>
          </a:xfrm>
          <a:prstGeom prst="line">
            <a:avLst/>
          </a:prstGeom>
          <a:ln w="60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880" y="185400"/>
            <a:ext cx="61894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42720" y="2471760"/>
            <a:ext cx="61722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직선 연결선 14"/>
          <p:cNvSpPr/>
          <p:nvPr/>
        </p:nvSpPr>
        <p:spPr>
          <a:xfrm>
            <a:off x="60480" y="1128600"/>
            <a:ext cx="6742080" cy="1800"/>
          </a:xfrm>
          <a:prstGeom prst="line">
            <a:avLst/>
          </a:prstGeom>
          <a:ln w="60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880" y="185400"/>
            <a:ext cx="61894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342720" y="2471760"/>
            <a:ext cx="61722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직선 연결선 14"/>
          <p:cNvSpPr/>
          <p:nvPr/>
        </p:nvSpPr>
        <p:spPr>
          <a:xfrm>
            <a:off x="60480" y="1128600"/>
            <a:ext cx="6742080" cy="1800"/>
          </a:xfrm>
          <a:prstGeom prst="line">
            <a:avLst/>
          </a:prstGeom>
          <a:ln w="60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880" y="185400"/>
            <a:ext cx="61894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342720" y="2471760"/>
            <a:ext cx="61722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직선 연결선 14"/>
          <p:cNvSpPr/>
          <p:nvPr/>
        </p:nvSpPr>
        <p:spPr>
          <a:xfrm>
            <a:off x="60480" y="1128600"/>
            <a:ext cx="6742080" cy="1800"/>
          </a:xfrm>
          <a:prstGeom prst="line">
            <a:avLst/>
          </a:prstGeom>
          <a:ln w="60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9880" y="185400"/>
            <a:ext cx="61894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342720" y="2471760"/>
            <a:ext cx="61722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직선 연결선 14"/>
          <p:cNvSpPr/>
          <p:nvPr/>
        </p:nvSpPr>
        <p:spPr>
          <a:xfrm>
            <a:off x="60480" y="1128600"/>
            <a:ext cx="6742080" cy="1800"/>
          </a:xfrm>
          <a:prstGeom prst="line">
            <a:avLst/>
          </a:prstGeom>
          <a:ln w="60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880" y="185400"/>
            <a:ext cx="61894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42720" y="2471760"/>
            <a:ext cx="61722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직선 연결선 14"/>
          <p:cNvSpPr/>
          <p:nvPr/>
        </p:nvSpPr>
        <p:spPr>
          <a:xfrm>
            <a:off x="60480" y="1128600"/>
            <a:ext cx="6742080" cy="1800"/>
          </a:xfrm>
          <a:prstGeom prst="line">
            <a:avLst/>
          </a:prstGeom>
          <a:ln w="60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80" y="185400"/>
            <a:ext cx="61894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42720" y="2471760"/>
            <a:ext cx="61722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직선 연결선 14"/>
          <p:cNvSpPr/>
          <p:nvPr/>
        </p:nvSpPr>
        <p:spPr>
          <a:xfrm>
            <a:off x="60480" y="1128600"/>
            <a:ext cx="6742080" cy="1800"/>
          </a:xfrm>
          <a:prstGeom prst="line">
            <a:avLst/>
          </a:prstGeom>
          <a:ln w="60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83"/>
          <p:cNvGrpSpPr/>
          <p:nvPr/>
        </p:nvGrpSpPr>
        <p:grpSpPr>
          <a:xfrm>
            <a:off x="-4680" y="2595600"/>
            <a:ext cx="6862320" cy="3708720"/>
            <a:chOff x="-4680" y="2595600"/>
            <a:chExt cx="6862320" cy="3708720"/>
          </a:xfrm>
        </p:grpSpPr>
        <p:sp>
          <p:nvSpPr>
            <p:cNvPr id="312" name="Line 6"/>
            <p:cNvSpPr/>
            <p:nvPr/>
          </p:nvSpPr>
          <p:spPr>
            <a:xfrm>
              <a:off x="0" y="2595600"/>
              <a:ext cx="28868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 flipV="1">
              <a:off x="0" y="2712240"/>
              <a:ext cx="2635560" cy="136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-4680" y="2820600"/>
              <a:ext cx="2349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315" name="Group 87"/>
            <p:cNvGrpSpPr/>
            <p:nvPr/>
          </p:nvGrpSpPr>
          <p:grpSpPr>
            <a:xfrm>
              <a:off x="3970440" y="6082920"/>
              <a:ext cx="2887200" cy="221400"/>
              <a:chOff x="3970440" y="6082920"/>
              <a:chExt cx="2887200" cy="221400"/>
            </a:xfrm>
          </p:grpSpPr>
          <p:sp>
            <p:nvSpPr>
              <p:cNvPr id="316" name="Line 8"/>
              <p:cNvSpPr/>
              <p:nvPr/>
            </p:nvSpPr>
            <p:spPr>
              <a:xfrm>
                <a:off x="4506480" y="6082920"/>
                <a:ext cx="234972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7" name="Line 7"/>
              <p:cNvSpPr/>
              <p:nvPr/>
            </p:nvSpPr>
            <p:spPr>
              <a:xfrm flipV="1">
                <a:off x="4216320" y="6173640"/>
                <a:ext cx="2636280" cy="1332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8" name="Line 6"/>
              <p:cNvSpPr/>
              <p:nvPr/>
            </p:nvSpPr>
            <p:spPr>
              <a:xfrm>
                <a:off x="3970440" y="6304320"/>
                <a:ext cx="288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319" name="Picture 93" descr=""/>
          <p:cNvPicPr/>
          <p:nvPr/>
        </p:nvPicPr>
        <p:blipFill>
          <a:blip r:embed="rId2"/>
          <a:stretch/>
        </p:blipFill>
        <p:spPr>
          <a:xfrm>
            <a:off x="239760" y="584280"/>
            <a:ext cx="1593720" cy="134928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13"/>
          <p:cNvGrpSpPr/>
          <p:nvPr/>
        </p:nvGrpSpPr>
        <p:grpSpPr>
          <a:xfrm>
            <a:off x="6291360" y="204840"/>
            <a:ext cx="414360" cy="394920"/>
            <a:chOff x="6291360" y="204840"/>
            <a:chExt cx="414360" cy="394920"/>
          </a:xfrm>
        </p:grpSpPr>
        <p:sp>
          <p:nvSpPr>
            <p:cNvPr id="321" name="Rectangle 14"/>
            <p:cNvSpPr/>
            <p:nvPr/>
          </p:nvSpPr>
          <p:spPr>
            <a:xfrm>
              <a:off x="6405840" y="291240"/>
              <a:ext cx="185760" cy="214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6291360" y="204840"/>
              <a:ext cx="414360" cy="39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 외 비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3" name="Text Box 41"/>
          <p:cNvSpPr/>
          <p:nvPr/>
        </p:nvSpPr>
        <p:spPr>
          <a:xfrm>
            <a:off x="6070680" y="687240"/>
            <a:ext cx="7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견고딕"/>
              </a:rPr>
              <a:t>’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견고딕"/>
              </a:rPr>
              <a:t>10.09.08~ ’11.09.08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9880" y="185400"/>
            <a:ext cx="61894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342720" y="2471760"/>
            <a:ext cx="61722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88920" indent="-8892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9"/>
          <p:cNvSpPr/>
          <p:nvPr/>
        </p:nvSpPr>
        <p:spPr>
          <a:xfrm>
            <a:off x="25560" y="276120"/>
            <a:ext cx="65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▣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K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이닉스 인턴프로그램 안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195120" y="1135080"/>
          <a:ext cx="6357960" cy="7248600"/>
        </p:xfrm>
        <a:graphic>
          <a:graphicData uri="http://schemas.openxmlformats.org/drawingml/2006/table">
            <a:tbl>
              <a:tblPr/>
              <a:tblGrid>
                <a:gridCol w="1092240"/>
                <a:gridCol w="4643640"/>
                <a:gridCol w="622080"/>
              </a:tblGrid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구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세 부 내 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 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맑은 고딕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AIST 3, 4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년 재학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습 분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맑은 고딕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설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공정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/W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습 기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맑은 고딕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‘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4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월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9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 ‘15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월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겨울방학 中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습 장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맑은 고딕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이닉스 사업장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당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청주 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습 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00"/>
                        </a:spcAft>
                        <a:buClr>
                          <a:srgbClr val="000000"/>
                        </a:buClr>
                        <a:buFont typeface="맑은 고딕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iz.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개 및 반도체 직무 교육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700"/>
                        </a:spcAft>
                        <a:buClr>
                          <a:srgbClr val="000000"/>
                        </a:buClr>
                        <a:buFont typeface="맑은 고딕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인별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entor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 지정되며 개인 역량과 관심분야를 고려하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간 진행될 과제를 선정 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7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결과물에 대한 프로젝트 발표회 실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1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차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원특강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도체 교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2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4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차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업 실습 및 프로젝트 발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 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습비 지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턴 실습기간 동안 기숙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식사 제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타 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학생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공채 지원 시 가산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류전형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여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 신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14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월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까지 이력서 제출 완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출처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youngpark.kim@sk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문의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ok1.choi@sk.com ,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31-639-6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oungpark.kim@sk.com , 031-630-2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04:41:22Z</dcterms:created>
  <dc:creator>서영수</dc:creator>
  <dc:description/>
  <dc:language>en-US</dc:language>
  <cp:lastModifiedBy>b43393</cp:lastModifiedBy>
  <dcterms:modified xsi:type="dcterms:W3CDTF">2014-11-13T02:26:28Z</dcterms:modified>
  <cp:revision>14182</cp:revision>
  <dc:subject/>
  <dc:title>PowerPoint 프레젠테이션</dc:title>
</cp:coreProperties>
</file>